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64D-388B-4A62-9886-3E0CABF1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587-C463-4657-BE16-35A7BC7D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4AB-4B58-4B9A-B023-D0B9ABC6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BF1-584D-425B-BCDC-677FFE72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45E4-359C-458E-ADFF-B233F177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0AE8-5785-4712-A638-CD167EC2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EE6D-C5D1-46BC-A889-A2520D98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7445-C76A-4EEB-BCED-18A17A76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470C-725F-44FD-A8C2-94D81486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282-8223-4449-A556-713C0239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97E6-C887-4964-828C-12C42CA9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2BE-1F5A-427D-BCE1-463F2C34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831A-FB16-4DFA-812A-6409ABA4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39A8-459F-46B6-BCDD-423A0939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ECD6-E36E-4E7C-82FC-B9DCCA35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51D3-AC37-4E1C-A42C-75031F34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88CA-F615-44A8-9679-E33EE2F8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CD7-282D-4E7F-9D0E-FA5CB6D6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1B0-8C8B-4714-8CB9-A2B8F930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DEAC-5AEB-43EA-B472-6B1776D7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FA7B-104B-4625-8684-54EA4D4C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249-9B89-4261-A9B4-4388EB3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4D3-DC46-4078-BE26-681DDA5B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56D-F960-4FF8-8F21-CB5C51F4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510C-DD62-46E3-9B7E-91B515B226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1DB2-1C08-471B-81B0-47EF8EB09E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eckle Face!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dding with style…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ayla Clea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ld your pape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large pap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ld it in half a bunch of times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aw a smiley face in each box  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ll a die, draw the dots on one side of the 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ll again, draw these dots in the other side of the face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unt how many in all, or altogether …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a number sentence in the box that matches the dots  2 + 4 = 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w you know how to make Freckle Faces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57200"/>
            <a:ext cx="182880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190512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190512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43434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Roll =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90512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43434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Roll =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190512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8862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3434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1148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441972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36576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411480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73392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eckle Faces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Roll = 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Roll = 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752480"/>
            <a:ext cx="4038480" cy="41148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6576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3809880"/>
            <a:ext cx="15228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396252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3962520"/>
            <a:ext cx="15264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3581280"/>
            <a:ext cx="15264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581280"/>
            <a:ext cx="152640" cy="15264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434340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571500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3 + 5 = 8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actice Freckle Fac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y this game with frie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y this game at 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2210040" cy="1486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09680" y="4952880"/>
            <a:ext cx="1530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4:37:38Z</dcterms:created>
  <dc:creator> </dc:creator>
  <dc:description/>
  <dc:language>en-US</dc:language>
  <cp:lastModifiedBy> </cp:lastModifiedBy>
  <dcterms:modified xsi:type="dcterms:W3CDTF">2008-04-23T14:50:25Z</dcterms:modified>
  <cp:revision>4</cp:revision>
  <dc:subject/>
  <dc:title>Freckle Face!</dc:title>
</cp:coreProperties>
</file>